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1D5-D0F5-45CB-ADE0-2F7FFCA4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C89-0706-40DF-BD5C-66D73AA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DE8-21D5-404B-A800-2DF55E4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505-9021-4E5E-9B48-0E7F3463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347-224E-434E-912B-75D8D48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DDE-9F66-4619-8F6B-62A83A90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5E8-64DE-4B4B-B6AD-5DCB752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0D6-B862-4DE8-8956-C51CAC8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D69-0C35-4318-A5EB-75F8697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5F8-25CA-4F55-BDF2-489561C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6EE-1028-4C4A-9084-BD01833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41D-4D39-443C-9643-A9419A9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4E0-0D80-42D7-918A-54F48406B9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8000" y="44280"/>
            <a:ext cx="8928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нозобая казарка – символ на гербе Таймыра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WordArt 7" descr=""/>
          <p:cNvPicPr/>
          <p:nvPr/>
        </p:nvPicPr>
        <p:blipFill>
          <a:blip r:embed="rId3"/>
          <a:stretch/>
        </p:blipFill>
        <p:spPr>
          <a:xfrm>
            <a:off x="3852720" y="2700360"/>
            <a:ext cx="5194440" cy="59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11280" y="5157360"/>
            <a:ext cx="8339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кальный координатор: воспитатель 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МК ДОУ «Хатангский детский сад комбинированного вида «Снежинка»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кирова Кристина Серге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и первой категории: Елогирь Александр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нина Кристи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G:\о Таймыре\таймыр_files\i_026.jpg"/>
          <p:cNvPicPr/>
          <p:nvPr/>
        </p:nvPicPr>
        <p:blipFill>
          <a:blip r:embed="rId4"/>
          <a:stretch/>
        </p:blipFill>
        <p:spPr>
          <a:xfrm>
            <a:off x="244440" y="2276640"/>
            <a:ext cx="3606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895320"/>
            <a:ext cx="4248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50920" y="6127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4788000" y="665280"/>
            <a:ext cx="423072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648036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19280" y="3644640"/>
            <a:ext cx="54226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684360" y="33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авка детских рисун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C:\Users\МММ\Desktop\IMG-20240124-WA0002.jpg"/>
          <p:cNvPicPr/>
          <p:nvPr/>
        </p:nvPicPr>
        <p:blipFill>
          <a:blip r:embed="rId1"/>
          <a:stretch/>
        </p:blipFill>
        <p:spPr>
          <a:xfrm>
            <a:off x="250920" y="1268280"/>
            <a:ext cx="85914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10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Результативность диктан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125000"/>
            <a:ext cx="854064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или представления о гербе Таймыра. Дети активно проявляли интерес к гербу своей малой родины. Стали понимать значение изображения на гер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тант позволил детям саморелизовать  свои творческие способности через художественное творчество: рисунки получились красивые и аккуратные; при демонстрации своего герба дети себя чувствовали уверенно и комфорт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лотился коллектив детей и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0160" y="5445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орма деятельности: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овместная деятельность взрослых и дете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ремя реализации: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40 мину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зраст детей: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5 – 7 л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частники диктанта: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дети, воспитатели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92000" y="3789000"/>
            <a:ext cx="756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аспорт диктант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57120" y="189000"/>
            <a:ext cx="47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Актуальность диктант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79280" y="836640"/>
            <a:ext cx="8785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е годы жизни ребенка имеют решающее значение в становлении основ его личности, поэтому важно правильно организовать воспитание и процесс усвоения ребенком опыта общественной жизни. Заложив фундамент с детства, мы можем надеяться, что воспитали настоящего патриота, любящего свою Родину. Формирование интереса и элементарных представлений старших дошкольников к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мволик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 геральдике - достаточно новое направление в работе детского сада, но необходимое в образовательной практике. И это понятно. Ведь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рбы государст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ородов, фамилий представляют собой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мволическое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лицо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сконцентрированное отражение их истории, их традиций.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мвол – предм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бъект, имеющий для человека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арода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определенный ценностный смысл не только в материальном, но и в духовном плане. Чтобы определенные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мвол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стали иметь ценностный смысл для ребенка, надо дать полное и понятное ему представление об этих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мвола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сущности и значении герба Таймыра как государственного символа Таймырского Долгано-Ненецкого муниципального района у детей старшего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  гербом мало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исследовать герб, понимать символическое значение формы, цвета, предметов изображенных на гер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основе полученных знаний нарисовать герб Таймыра в ходе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ывать любовь и чувство уважения к малой Роди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труктура диктан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местная познавательная деятельность с детьми: «Это интересно знать»: рассматривание изображения герба Таймы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ое творчество - рисование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раснозобая казарка – символ на гербе Таймы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ительный этап: Выставка детских рисун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115560"/>
            <a:ext cx="8510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Совместная познавательная деятельность с детьми: «Это интересно знать» (рассматривание герба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9" descr="C:\Users\кристина\Desktop\Диктант\IMG-20240123-WA0011.jpg"/>
          <p:cNvPicPr/>
          <p:nvPr/>
        </p:nvPicPr>
        <p:blipFill>
          <a:blip r:embed="rId1"/>
          <a:stretch/>
        </p:blipFill>
        <p:spPr>
          <a:xfrm>
            <a:off x="826920" y="98100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15560"/>
            <a:ext cx="84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просмотр видеоролика «Краснозобая казар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C:\Users\кристина\Desktop\Диктант\просмотр видеоролика.jpg"/>
          <p:cNvPicPr/>
          <p:nvPr/>
        </p:nvPicPr>
        <p:blipFill>
          <a:blip r:embed="rId1"/>
          <a:srcRect l="0" t="9087" r="0" b="28"/>
          <a:stretch/>
        </p:blipFill>
        <p:spPr>
          <a:xfrm>
            <a:off x="324000" y="765000"/>
            <a:ext cx="8450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400" y="333000"/>
            <a:ext cx="901692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 – рисование 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«Краснозобая казарка – символ на гербе Таймыр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C:\Users\кристина\Desktop\Диктант\Дима Толя (3).jpg"/>
          <p:cNvPicPr/>
          <p:nvPr/>
        </p:nvPicPr>
        <p:blipFill>
          <a:blip r:embed="rId1"/>
          <a:stretch/>
        </p:blipFill>
        <p:spPr>
          <a:xfrm>
            <a:off x="108000" y="1484280"/>
            <a:ext cx="5416560" cy="40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кристина\Desktop\Диктант\выполнение диктанат.jpg"/>
          <p:cNvPicPr/>
          <p:nvPr/>
        </p:nvPicPr>
        <p:blipFill>
          <a:blip r:embed="rId2"/>
          <a:stretch/>
        </p:blipFill>
        <p:spPr>
          <a:xfrm>
            <a:off x="5651640" y="2205000"/>
            <a:ext cx="33177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1263960"/>
            <a:ext cx="3384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3959280" cy="528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кристина\Desktop\Диктант\IMG-20240123-WA0043.jpg"/>
          <p:cNvPicPr/>
          <p:nvPr/>
        </p:nvPicPr>
        <p:blipFill>
          <a:blip r:embed="rId2"/>
          <a:stretch/>
        </p:blipFill>
        <p:spPr>
          <a:xfrm>
            <a:off x="4284720" y="3284640"/>
            <a:ext cx="4608360" cy="34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4500720" y="115920"/>
            <a:ext cx="40860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2:11:05Z</dcterms:created>
  <dc:creator>Ольга</dc:creator>
  <dc:description/>
  <dc:language>en-US</dc:language>
  <cp:lastModifiedBy>МММ</cp:lastModifiedBy>
  <dcterms:modified xsi:type="dcterms:W3CDTF">2024-01-24T06:23:54Z</dcterms:modified>
  <cp:revision>35</cp:revision>
  <dc:subject/>
  <dc:title>Слайд 1</dc:title>
</cp:coreProperties>
</file>